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5F6-4114-4B13-B5AB-FE64FC2B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577-EEBD-4B6F-BE7A-6CFFE120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E55-6ADE-49C8-B136-2FFB9CF4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120-E8A4-43F1-B9CC-EF3AC59C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4344-CB83-4517-A23B-41DAC2C3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CF8D-5D42-4584-9F53-ABE9E23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A3CD-350C-4613-9AC7-0F71486B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B3BD-A747-40D8-B73A-61746816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D0F9-B451-44D2-B082-B2CA65EF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1393-962F-425C-A505-BCAFB917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8ED1-7C6E-49FE-884C-262673D8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433-2519-4AD2-9D12-7BD57762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273F-09AE-4507-9312-1C0B3FE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891D-0F5B-4CCA-9BD9-47048848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1001-2F65-45B6-B098-613FC3E6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202C-9EB0-4E2F-92AC-77CD4B91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7FA-2BF3-4D85-8EE1-49026724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F28-D842-48DC-86C6-7E332DAD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759-80E1-4E4E-84A2-BDC7D9AC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352-A031-4514-8C54-41AA123F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351-FE96-49D7-990F-8A386CF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881-7662-4878-8CCB-68CB429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DC6-A97D-4F17-ABFA-F3F7012B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7CB-31FC-44B9-9B67-F138A67A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468a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6399-121D-43BB-819D-768E3C60CBC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ebf1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ebf1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ebf1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3ebf1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085A-650F-4328-B983-15D7D411B0C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468a4b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f0e5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3ebf1"/>
                </a:solidFill>
                <a:uFillTx/>
                <a:latin typeface="Monotype Corsiva"/>
              </a:rPr>
              <a:t>Special &amp; Vulnerab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Glob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Sea Lev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3124080"/>
            <a:ext cx="50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W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2:31Z</dcterms:created>
  <dc:creator>PA Department of Education</dc:creator>
  <dc:description/>
  <dc:language>en-US</dc:language>
  <cp:lastModifiedBy>PA Department of Education</cp:lastModifiedBy>
  <dcterms:modified xsi:type="dcterms:W3CDTF">2009-05-27T16:45:00Z</dcterms:modified>
  <cp:revision>4</cp:revision>
  <dc:subject/>
  <dc:title>Special &amp; Vulnerable</dc:title>
</cp:coreProperties>
</file>